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AFED-6DDD-4351-A291-53E17EE1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0986-7FDE-4673-8C4E-89DD4773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6C8-0FB5-4663-A742-8D14D4AB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5308-77BC-4EA3-959F-0E802F69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E166-C469-4BCE-9327-AB88793A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188D-30C9-4797-99E3-FD103AB3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D2A6-278A-45F0-97BB-D1E20A5B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B623-BA86-4EF6-A20D-BCB75853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C042-1CD8-431A-B616-0BAA6CAA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7B8B-DC1A-427E-9974-2270F972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3D04-885A-46BF-90D1-47FA6A7B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47A-DCA5-495C-A054-8A2A9A25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5282-A8A9-483B-8429-C2C804E0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4522-86D6-47C7-97C0-2C2E60FB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B39B-D788-4824-802E-8F1FA001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7190-04A4-463D-B87D-DA7739FF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DD57-5BE0-4846-97D7-14A32ED8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C84-D3F2-4240-ACD0-4A7831C0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C055-5B03-4E16-913B-B6E3C0AA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BE6E-C8D1-4CEB-8F46-E2609AE5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D73A-13D9-4732-A749-F2227613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83D-19AC-42C0-9A3E-CF448D5E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D19A-0C2C-41BD-931D-CA513CB9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8C58-16CD-42A2-9177-AFF02414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Freeform 3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/>
              <a:ahLst/>
              <a:rect l="l" t="t" r="r" b="b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Group 6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Group 9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Freeform 10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1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Freeform 12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/>
                  <a:ahLst/>
                  <a:rect l="l" t="t" r="r" b="b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/>
                  <a:ahLst/>
                  <a:rect l="l" t="t" r="r" b="b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/>
                  <a:ahLst/>
                  <a:rect l="l" t="t" r="r" b="b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3" name="Group 15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Freeform 16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Freeform 20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/>
                  <a:ahLst/>
                  <a:rect l="l" t="t" r="r" b="b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/>
                  <a:ahLst/>
                  <a:rect l="l" t="t" r="r" b="b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/>
                  <a:ahLst/>
                  <a:rect l="l" t="t" r="r" b="b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/>
                  <a:ahLst/>
                  <a:rect l="l" t="t" r="r" b="b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/>
                  <a:ahLst/>
                  <a:rect l="l" t="t" r="r" b="b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/>
                  <a:ahLst/>
                  <a:rect l="l" t="t" r="r" b="b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/>
                  <a:ahLst/>
                  <a:rect l="l" t="t" r="r" b="b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/>
                  <a:ahLst/>
                  <a:rect l="l" t="t" r="r" b="b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/>
                  <a:ahLst/>
                  <a:rect l="l" t="t" r="r" b="b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/>
                  <a:ahLst/>
                  <a:rect l="l" t="t" r="r" b="b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/>
                <a:ahLst/>
                <a:rect l="l" t="t" r="r" b="b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0" name="Group 32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Freeform 33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/>
                  <a:ahLst/>
                  <a:rect l="l" t="t" r="r" b="b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/>
                  <a:ahLst/>
                  <a:rect l="l" t="t" r="r" b="b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/>
                  <a:ahLst/>
                  <a:rect l="l" t="t" r="r" b="b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Freeform 36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/>
                <a:ahLst/>
                <a:rect l="l" t="t" r="r" b="b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36" name="Group 38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Freeform 39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/>
                  <a:ahLst/>
                  <a:rect l="l" t="t" r="r" b="b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/>
                  <a:ahLst/>
                  <a:rect l="l" t="t" r="r" b="b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Freeform 41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/>
                <a:ahLst/>
                <a:rect l="l" t="t" r="r" b="b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40" name="Group 42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Freeform 43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/>
                  <a:ahLst/>
                  <a:rect l="l" t="t" r="r" b="b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/>
                  <a:ahLst/>
                  <a:rect l="l" t="t" r="r" b="b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43" name="Group 45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Freeform 46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Freeform 48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/>
                  <a:ahLst/>
                  <a:rect l="l" t="t" r="r" b="b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/>
                  <a:ahLst/>
                  <a:rect l="l" t="t" r="r" b="b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Freeform 50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/>
                <a:ahLst/>
                <a:rect l="l" t="t" r="r" b="b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/>
                <a:ahLst/>
                <a:rect l="l" t="t" r="r" b="b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/>
                <a:ahLst/>
                <a:rect l="l" t="t" r="r" b="b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/>
                <a:ahLst/>
                <a:rect l="l" t="t" r="r" b="b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/>
                <a:ahLst/>
                <a:rect l="l" t="t" r="r" b="b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/>
                <a:ahLst/>
                <a:rect l="l" t="t" r="r" b="b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/>
                <a:ahLst/>
                <a:rect l="l" t="t" r="r" b="b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/>
                <a:ahLst/>
                <a:rect l="l" t="t" r="r" b="b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Freeform 63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/>
                  <a:ahLst/>
                  <a:rect l="l" t="t" r="r" b="b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64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/>
                  <a:ahLst/>
                  <a:rect l="l" t="t" r="r" b="b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Freeform 65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/>
                <a:ahLst/>
                <a:rect l="l" t="t" r="r" b="b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/>
                <a:ahLst/>
                <a:rect l="l" t="t" r="r" b="b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/>
                <a:ahLst/>
                <a:rect l="l" t="t" r="r" b="b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/>
                <a:ahLst/>
                <a:rect l="l" t="t" r="r" b="b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/>
                <a:ahLst/>
                <a:rect l="l" t="t" r="r" b="b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70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Group 71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Freeform 72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/>
                  <a:ahLst/>
                  <a:rect l="l" t="t" r="r" b="b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3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/>
                  <a:ahLst/>
                  <a:rect l="l" t="t" r="r" b="b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4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/>
                  <a:ahLst/>
                  <a:rect l="l" t="t" r="r" b="b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75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/>
                  <a:ahLst/>
                  <a:rect l="l" t="t" r="r" b="b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76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/>
                  <a:ahLst/>
                  <a:rect l="l" t="t" r="r" b="b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77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/>
                  <a:ahLst/>
                  <a:rect l="l" t="t" r="r" b="b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78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/>
                  <a:ahLst/>
                  <a:rect l="l" t="t" r="r" b="b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79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/>
                  <a:ahLst/>
                  <a:rect l="l" t="t" r="r" b="b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0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/>
                  <a:ahLst/>
                  <a:rect l="l" t="t" r="r" b="b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/>
                  <a:ahLst/>
                  <a:rect l="l" t="t" r="r" b="b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2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/>
                  <a:ahLst/>
                  <a:rect l="l" t="t" r="r" b="b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3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/>
                  <a:ahLst/>
                  <a:rect l="l" t="t" r="r" b="b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84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/>
                  <a:ahLst/>
                  <a:rect l="l" t="t" r="r" b="b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5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/>
                  <a:ahLst/>
                  <a:rect l="l" t="t" r="r" b="b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86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/>
                  <a:ahLst/>
                  <a:rect l="l" t="t" r="r" b="b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Freeform 87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/>
                <a:ahLst/>
                <a:rect l="l" t="t" r="r" b="b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6" name="Freeform 88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/>
                <a:ahLst/>
                <a:rect l="l" t="t" r="r" b="b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7" name="Freeform 89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/>
                <a:ahLst/>
                <a:rect l="l" t="t" r="r" b="b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8" name="Freeform 90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/>
                <a:ahLst/>
                <a:rect l="l" t="t" r="r" b="b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89" name="Freeform 91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/>
                <a:ahLst/>
                <a:rect l="l" t="t" r="r" b="b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0" name="Freeform 92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/>
                <a:ahLst/>
                <a:rect l="l" t="t" r="r" b="b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1" name="Freeform 93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/>
                <a:ahLst/>
                <a:rect l="l" t="t" r="r" b="b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/>
                <a:ahLst/>
                <a:rect l="l" t="t" r="r" b="b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/>
                <a:ahLst/>
                <a:rect l="l" t="t" r="r" b="b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/>
                <a:ahLst/>
                <a:rect l="l" t="t" r="r" b="b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6" name="Freeform 98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/>
                <a:ahLst/>
                <a:rect l="l" t="t" r="r" b="b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7" name="Freeform 99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/>
                <a:ahLst/>
                <a:rect l="l" t="t" r="r" b="b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8" name="Freeform 100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/>
                <a:ahLst/>
                <a:rect l="l" t="t" r="r" b="b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/>
                <a:ahLst/>
                <a:rect l="l" t="t" r="r" b="b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/>
                <a:ahLst/>
                <a:rect l="l" t="t" r="r" b="b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/>
                <a:ahLst/>
                <a:rect l="l" t="t" r="r" b="b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2" name="Freeform 104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/>
                <a:ahLst/>
                <a:rect l="l" t="t" r="r" b="b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3" name="Freeform 105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/>
                <a:ahLst/>
                <a:rect l="l" t="t" r="r" b="b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/>
                <a:ahLst/>
                <a:rect l="l" t="t" r="r" b="b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/>
                <a:ahLst/>
                <a:rect l="l" t="t" r="r" b="b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7" name="Freeform 109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/>
                <a:ahLst/>
                <a:rect l="l" t="t" r="r" b="b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8" name="Freeform 110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/>
                <a:ahLst/>
                <a:rect l="l" t="t" r="r" b="b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/>
                <a:ahLst/>
                <a:rect l="l" t="t" r="r" b="b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E168-11C5-4B4C-93CB-D4464E2461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Freeform 3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/>
              <a:ahLst/>
              <a:rect l="l" t="t" r="r" b="b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Group 5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Group 6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Freeform 7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8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9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Freeform 10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1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Freeform 12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/>
                  <a:ahLst/>
                  <a:rect l="l" t="t" r="r" b="b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3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/>
                  <a:ahLst/>
                  <a:rect l="l" t="t" r="r" b="b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4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/>
                  <a:ahLst/>
                  <a:rect l="l" t="t" r="r" b="b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15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Freeform 16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7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8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9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20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/>
                  <a:ahLst/>
                  <a:rect l="l" t="t" r="r" b="b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1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/>
                  <a:ahLst/>
                  <a:rect l="l" t="t" r="r" b="b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22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/>
                  <a:ahLst/>
                  <a:rect l="l" t="t" r="r" b="b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3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/>
                  <a:ahLst/>
                  <a:rect l="l" t="t" r="r" b="b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4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/>
                  <a:ahLst/>
                  <a:rect l="l" t="t" r="r" b="b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5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/>
                  <a:ahLst/>
                  <a:rect l="l" t="t" r="r" b="b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26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/>
                  <a:ahLst/>
                  <a:rect l="l" t="t" r="r" b="b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27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/>
                  <a:ahLst/>
                  <a:rect l="l" t="t" r="r" b="b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28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/>
                  <a:ahLst/>
                  <a:rect l="l" t="t" r="r" b="b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9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/>
                  <a:ahLst/>
                  <a:rect l="l" t="t" r="r" b="b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30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/>
                  <a:ahLst/>
                  <a:rect l="l" t="t" r="r" b="b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31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/>
                <a:ahLst/>
                <a:rect l="l" t="t" r="r" b="b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2" name="Group 32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Freeform 33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/>
                  <a:ahLst/>
                  <a:rect l="l" t="t" r="r" b="b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4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/>
                  <a:ahLst/>
                  <a:rect l="l" t="t" r="r" b="b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5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/>
                  <a:ahLst/>
                  <a:rect l="l" t="t" r="r" b="b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Freeform 36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/>
                <a:ahLst/>
                <a:rect l="l" t="t" r="r" b="b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187" name="Freeform 37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/>
                <a:ahLst/>
                <a:rect l="l" t="t" r="r" b="b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88" name="Group 38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Freeform 39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/>
                  <a:ahLst/>
                  <a:rect l="l" t="t" r="r" b="b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40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/>
                  <a:ahLst/>
                  <a:rect l="l" t="t" r="r" b="b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Freeform 41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/>
                <a:ahLst/>
                <a:rect l="l" t="t" r="r" b="b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192" name="Group 42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Freeform 43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/>
                  <a:ahLst/>
                  <a:rect l="l" t="t" r="r" b="b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4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/>
                  <a:ahLst/>
                  <a:rect l="l" t="t" r="r" b="b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Group 45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Freeform 46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47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Freeform 48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/>
                  <a:ahLst/>
                  <a:rect l="l" t="t" r="r" b="b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9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/>
                  <a:ahLst/>
                  <a:rect l="l" t="t" r="r" b="b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50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/>
                <a:ahLst/>
                <a:rect l="l" t="t" r="r" b="b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1" name="Freeform 51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/>
                <a:ahLst/>
                <a:rect l="l" t="t" r="r" b="b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2" name="Freeform 52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/>
                <a:ahLst/>
                <a:rect l="l" t="t" r="r" b="b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3" name="Freeform 53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4" name="Freeform 54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/>
                <a:ahLst/>
                <a:rect l="l" t="t" r="r" b="b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5" name="Freeform 55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/>
                <a:ahLst/>
                <a:rect l="l" t="t" r="r" b="b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6" name="Freeform 56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/>
                <a:ahLst/>
                <a:rect l="l" t="t" r="r" b="b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7" name="Freeform 57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/>
                <a:ahLst/>
                <a:rect l="l" t="t" r="r" b="b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8" name="Freeform 58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/>
                <a:ahLst/>
                <a:rect l="l" t="t" r="r" b="b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09" name="Freeform 59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0" name="Freeform 60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/>
                <a:ahLst/>
                <a:rect l="l" t="t" r="r" b="b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1" name="Freeform 61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/>
                <a:ahLst/>
                <a:rect l="l" t="t" r="r" b="b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grpSp>
            <p:nvGrpSpPr>
              <p:cNvPr id="212" name="Group 62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Freeform 63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/>
                  <a:ahLst/>
                  <a:rect l="l" t="t" r="r" b="b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64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/>
                  <a:ahLst/>
                  <a:rect l="l" t="t" r="r" b="b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Freeform 65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/>
                <a:ahLst/>
                <a:rect l="l" t="t" r="r" b="b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6" name="Freeform 66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7" name="Freeform 67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/>
                <a:ahLst/>
                <a:rect l="l" t="t" r="r" b="b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8" name="Freeform 68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/>
                <a:ahLst/>
                <a:rect l="l" t="t" r="r" b="b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19" name="Freeform 69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/>
                <a:ahLst/>
                <a:rect l="l" t="t" r="r" b="b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70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Group 71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Freeform 72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/>
                  <a:ahLst/>
                  <a:rect l="l" t="t" r="r" b="b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3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/>
                  <a:ahLst/>
                  <a:rect l="l" t="t" r="r" b="b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74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/>
                  <a:ahLst/>
                  <a:rect l="l" t="t" r="r" b="b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75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/>
                  <a:ahLst/>
                  <a:rect l="l" t="t" r="r" b="b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76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/>
                  <a:ahLst/>
                  <a:rect l="l" t="t" r="r" b="b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77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/>
                  <a:ahLst/>
                  <a:rect l="l" t="t" r="r" b="b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78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/>
                  <a:ahLst/>
                  <a:rect l="l" t="t" r="r" b="b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79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/>
                  <a:ahLst/>
                  <a:rect l="l" t="t" r="r" b="b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80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81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/>
                  <a:ahLst/>
                  <a:rect l="l" t="t" r="r" b="b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2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/>
                  <a:ahLst/>
                  <a:rect l="l" t="t" r="r" b="b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3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/>
                  <a:ahLst/>
                  <a:rect l="l" t="t" r="r" b="b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4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/>
                  <a:ahLst/>
                  <a:rect l="l" t="t" r="r" b="b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5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/>
                  <a:ahLst/>
                  <a:rect l="l" t="t" r="r" b="b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86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/>
                  <a:ahLst/>
                  <a:rect l="l" t="t" r="r" b="b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Freeform 87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/>
                <a:ahLst/>
                <a:rect l="l" t="t" r="r" b="b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8" name="Freeform 88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/>
                <a:ahLst/>
                <a:rect l="l" t="t" r="r" b="b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39" name="Freeform 89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/>
                <a:ahLst/>
                <a:rect l="l" t="t" r="r" b="b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0" name="Freeform 90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/>
                <a:ahLst/>
                <a:rect l="l" t="t" r="r" b="b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1" name="Freeform 91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/>
                <a:ahLst/>
                <a:rect l="l" t="t" r="r" b="b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2" name="Freeform 92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/>
                <a:ahLst/>
                <a:rect l="l" t="t" r="r" b="b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3" name="Freeform 93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/>
                <a:ahLst/>
                <a:rect l="l" t="t" r="r" b="b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4" name="Freeform 94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/>
                <a:ahLst/>
                <a:rect l="l" t="t" r="r" b="b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5" name="Freeform 95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/>
                <a:ahLst/>
                <a:rect l="l" t="t" r="r" b="b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6" name="Freeform 96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/>
                <a:ahLst/>
                <a:rect l="l" t="t" r="r" b="b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7" name="Freeform 97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/>
                <a:ahLst/>
                <a:rect l="l" t="t" r="r" b="b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8" name="Freeform 98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/>
                <a:ahLst/>
                <a:rect l="l" t="t" r="r" b="b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49" name="Freeform 99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/>
                <a:ahLst/>
                <a:rect l="l" t="t" r="r" b="b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0" name="Freeform 100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/>
                <a:ahLst/>
                <a:rect l="l" t="t" r="r" b="b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1" name="Freeform 101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/>
                <a:ahLst/>
                <a:rect l="l" t="t" r="r" b="b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2" name="Freeform 102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/>
                <a:ahLst/>
                <a:rect l="l" t="t" r="r" b="b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3" name="Freeform 103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/>
                <a:ahLst/>
                <a:rect l="l" t="t" r="r" b="b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4" name="Freeform 104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/>
                <a:ahLst/>
                <a:rect l="l" t="t" r="r" b="b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5" name="Freeform 105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/>
                <a:ahLst/>
                <a:rect l="l" t="t" r="r" b="b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6" name="Freeform 106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7" name="Freeform 107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/>
                <a:ahLst/>
                <a:rect l="l" t="t" r="r" b="b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8" name="Freeform 108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/>
                <a:ahLst/>
                <a:rect l="l" t="t" r="r" b="b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59" name="Freeform 109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/>
                <a:ahLst/>
                <a:rect l="l" t="t" r="r" b="b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0" name="Freeform 110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/>
                <a:ahLst/>
                <a:rect l="l" t="t" r="r" b="b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1" name="Freeform 111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/>
                <a:ahLst/>
                <a:rect l="l" t="t" r="r" b="b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  <p:sp>
            <p:nvSpPr>
              <p:cNvPr id="262" name="Freeform 112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/>
                <a:ahLst/>
                <a:rect l="l" t="t" r="r" b="b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3FEB-7076-4797-9541-427655CEA0B6}" type="slidenum">
              <a:rPr b="0" lang="fr-FR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124080" y="3212640"/>
            <a:ext cx="228600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Unité 3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793440" y="4229280"/>
            <a:ext cx="7583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Home Sweet Home 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2146320" y="477720"/>
            <a:ext cx="44416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3836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Je -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41" name="Picture 6" descr="MPj04073210000[1]"/>
          <p:cNvPicPr/>
          <p:nvPr/>
        </p:nvPicPr>
        <p:blipFill>
          <a:blip r:embed="rId1"/>
          <a:stretch/>
        </p:blipFill>
        <p:spPr>
          <a:xfrm>
            <a:off x="3048120" y="1752480"/>
            <a:ext cx="31510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Il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44" name="Picture 4" descr="MPj04022150000[1]"/>
          <p:cNvPicPr/>
          <p:nvPr/>
        </p:nvPicPr>
        <p:blipFill>
          <a:blip r:embed="rId1"/>
          <a:stretch/>
        </p:blipFill>
        <p:spPr>
          <a:xfrm>
            <a:off x="2693880" y="1862280"/>
            <a:ext cx="375300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tu / +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47" name="Picture 1" descr="conseils-de-rasage-federer.jpg"/>
          <p:cNvPicPr/>
          <p:nvPr/>
        </p:nvPicPr>
        <p:blipFill>
          <a:blip r:embed="rId1"/>
          <a:stretch/>
        </p:blipFill>
        <p:spPr>
          <a:xfrm>
            <a:off x="2209680" y="2209680"/>
            <a:ext cx="54864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je / +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50" name="Picture 2" descr="C:\Users\vgrebert\Desktop\wakeup[1].jpg"/>
          <p:cNvPicPr/>
          <p:nvPr/>
        </p:nvPicPr>
        <p:blipFill>
          <a:blip r:embed="rId1"/>
          <a:stretch/>
        </p:blipFill>
        <p:spPr>
          <a:xfrm>
            <a:off x="2666880" y="1981080"/>
            <a:ext cx="44960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On / -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53" name="Picture 2" descr="C:\Users\vgrebert\Desktop\gogoaaa00042[1].jpg"/>
          <p:cNvPicPr/>
          <p:nvPr/>
        </p:nvPicPr>
        <p:blipFill>
          <a:blip r:embed="rId1"/>
          <a:stretch/>
        </p:blipFill>
        <p:spPr>
          <a:xfrm>
            <a:off x="1752480" y="2362320"/>
            <a:ext cx="5775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dddddd"/>
                </a:solidFill>
                <a:latin typeface="Times New Roman"/>
              </a:rPr>
              <a:t>Directions: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6699"/>
                </a:solidFill>
                <a:latin typeface="Arial"/>
              </a:rPr>
              <a:t>Maintenant, changez de papier et corrigez le papier de votre partenair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Je - 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AutoShape 4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9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60" name="Picture 6" descr="MPj04073210000[1]"/>
          <p:cNvPicPr/>
          <p:nvPr/>
        </p:nvPicPr>
        <p:blipFill>
          <a:blip r:embed="rId1"/>
          <a:stretch/>
        </p:blipFill>
        <p:spPr>
          <a:xfrm>
            <a:off x="3048120" y="1752480"/>
            <a:ext cx="3151080" cy="472464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7"/>
          <p:cNvSpPr/>
          <p:nvPr/>
        </p:nvSpPr>
        <p:spPr>
          <a:xfrm>
            <a:off x="838080" y="563868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Je me lave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IL  / +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64" name="Picture 4" descr="MPj04022150000[1]"/>
          <p:cNvPicPr/>
          <p:nvPr/>
        </p:nvPicPr>
        <p:blipFill>
          <a:blip r:embed="rId1"/>
          <a:stretch/>
        </p:blipFill>
        <p:spPr>
          <a:xfrm>
            <a:off x="2693880" y="1862280"/>
            <a:ext cx="3753000" cy="469080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5"/>
          <p:cNvSpPr/>
          <p:nvPr/>
        </p:nvSpPr>
        <p:spPr>
          <a:xfrm>
            <a:off x="838080" y="563868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Il s’habille.</a:t>
            </a:r>
            <a:endParaRPr b="0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tu / +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4949280" y="6019920"/>
            <a:ext cx="25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u te rases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69" name="Picture 5" descr="conseils-de-rasage-federer.jpg"/>
          <p:cNvPicPr/>
          <p:nvPr/>
        </p:nvPicPr>
        <p:blipFill>
          <a:blip r:embed="rId1"/>
          <a:stretch/>
        </p:blipFill>
        <p:spPr>
          <a:xfrm>
            <a:off x="2209680" y="2209680"/>
            <a:ext cx="54864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je / +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72" name="Picture 2" descr="C:\Users\vgrebert\Desktop\wakeup[1].jpg"/>
          <p:cNvPicPr/>
          <p:nvPr/>
        </p:nvPicPr>
        <p:blipFill>
          <a:blip r:embed="rId1"/>
          <a:stretch/>
        </p:blipFill>
        <p:spPr>
          <a:xfrm>
            <a:off x="2666880" y="1981080"/>
            <a:ext cx="4496040" cy="4157640"/>
          </a:xfrm>
          <a:prstGeom prst="rect">
            <a:avLst/>
          </a:prstGeom>
          <a:ln w="0">
            <a:noFill/>
          </a:ln>
        </p:spPr>
      </p:pic>
      <p:sp>
        <p:nvSpPr>
          <p:cNvPr id="373" name="TextBox 4"/>
          <p:cNvSpPr/>
          <p:nvPr/>
        </p:nvSpPr>
        <p:spPr>
          <a:xfrm>
            <a:off x="2987640" y="5943600"/>
            <a:ext cx="31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Je me réveille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dddddd"/>
                </a:solidFill>
                <a:latin typeface="Times New Roman"/>
              </a:rPr>
              <a:t>Directions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6699"/>
                </a:solidFill>
                <a:latin typeface="Arial"/>
              </a:rPr>
              <a:t>Regardez la photo et écrivez sur votre tableau la forme correcte du verbe.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On / -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76" name="Picture 2" descr="C:\Users\vgrebert\Desktop\gogoaaa00042[1].jpg"/>
          <p:cNvPicPr/>
          <p:nvPr/>
        </p:nvPicPr>
        <p:blipFill>
          <a:blip r:embed="rId1"/>
          <a:stretch/>
        </p:blipFill>
        <p:spPr>
          <a:xfrm>
            <a:off x="1752480" y="2362320"/>
            <a:ext cx="5775480" cy="3504960"/>
          </a:xfrm>
          <a:prstGeom prst="rect">
            <a:avLst/>
          </a:prstGeom>
          <a:ln w="0">
            <a:noFill/>
          </a:ln>
        </p:spPr>
      </p:pic>
      <p:sp>
        <p:nvSpPr>
          <p:cNvPr id="377" name="TextBox 4"/>
          <p:cNvSpPr/>
          <p:nvPr/>
        </p:nvSpPr>
        <p:spPr>
          <a:xfrm>
            <a:off x="2232720" y="5715000"/>
            <a:ext cx="50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On ne se déshabille pas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10" name="Picture 4" descr="MPj04090860000[1]"/>
          <p:cNvPicPr/>
          <p:nvPr/>
        </p:nvPicPr>
        <p:blipFill>
          <a:blip r:embed="rId1"/>
          <a:stretch/>
        </p:blipFill>
        <p:spPr>
          <a:xfrm>
            <a:off x="2971800" y="1905120"/>
            <a:ext cx="3040200" cy="45720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6"/>
          <p:cNvSpPr/>
          <p:nvPr/>
        </p:nvSpPr>
        <p:spPr>
          <a:xfrm>
            <a:off x="1219320" y="3808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TU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3734280" y="533520"/>
            <a:ext cx="287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Arial"/>
              </a:rPr>
              <a:t>tu te réveilles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181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Ell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15" name="Picture 4" descr="Agathe sitting on the edge of her bed. She’s wearing a long pink nightgown. The clock on the nightstand beside the bed reads 7:00."/>
          <p:cNvPicPr/>
          <p:nvPr/>
        </p:nvPicPr>
        <p:blipFill>
          <a:blip r:embed="rId1"/>
          <a:stretch/>
        </p:blipFill>
        <p:spPr>
          <a:xfrm>
            <a:off x="2057400" y="1828800"/>
            <a:ext cx="5334120" cy="46879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5"/>
          <p:cNvSpPr/>
          <p:nvPr/>
        </p:nvSpPr>
        <p:spPr>
          <a:xfrm>
            <a:off x="3748680" y="762120"/>
            <a:ext cx="283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Elle</a:t>
            </a:r>
            <a:r>
              <a:rPr b="0" lang="en-US" sz="4000" spc="-1" strike="noStrike">
                <a:solidFill>
                  <a:srgbClr val="336699"/>
                </a:solidFill>
                <a:latin typeface="Arial"/>
              </a:rPr>
              <a:t> se lève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2120" y="92988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J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21" name="Picture 6" descr="MPj04073210000[1]"/>
          <p:cNvPicPr/>
          <p:nvPr/>
        </p:nvPicPr>
        <p:blipFill>
          <a:blip r:embed="rId1"/>
          <a:stretch/>
        </p:blipFill>
        <p:spPr>
          <a:xfrm>
            <a:off x="3048120" y="1752480"/>
            <a:ext cx="3151080" cy="472464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7"/>
          <p:cNvSpPr/>
          <p:nvPr/>
        </p:nvSpPr>
        <p:spPr>
          <a:xfrm>
            <a:off x="3598200" y="68580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Je  me lave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165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J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25" name="Picture 4" descr="MPj04007320000[1]"/>
          <p:cNvPicPr/>
          <p:nvPr/>
        </p:nvPicPr>
        <p:blipFill>
          <a:blip r:embed="rId1"/>
          <a:stretch/>
        </p:blipFill>
        <p:spPr>
          <a:xfrm>
            <a:off x="1143000" y="1763640"/>
            <a:ext cx="7086600" cy="472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5"/>
          <p:cNvSpPr/>
          <p:nvPr/>
        </p:nvSpPr>
        <p:spPr>
          <a:xfrm>
            <a:off x="3125160" y="533520"/>
            <a:ext cx="521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Je me brosse les dents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Mon père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29" name="Picture 4" descr="MPj04022150000[1]"/>
          <p:cNvPicPr/>
          <p:nvPr/>
        </p:nvPicPr>
        <p:blipFill>
          <a:blip r:embed="rId1"/>
          <a:stretch/>
        </p:blipFill>
        <p:spPr>
          <a:xfrm>
            <a:off x="2693880" y="1862280"/>
            <a:ext cx="3753000" cy="469080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5"/>
          <p:cNvSpPr/>
          <p:nvPr/>
        </p:nvSpPr>
        <p:spPr>
          <a:xfrm>
            <a:off x="3149640" y="685800"/>
            <a:ext cx="46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Mon père s’habille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6699"/>
                </a:solidFill>
                <a:latin typeface="Times New Roman"/>
              </a:rPr>
              <a:t>ON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33" name="Picture 4" descr="MPj04089080000[1]"/>
          <p:cNvPicPr/>
          <p:nvPr/>
        </p:nvPicPr>
        <p:blipFill>
          <a:blip r:embed="rId1"/>
          <a:stretch/>
        </p:blipFill>
        <p:spPr>
          <a:xfrm>
            <a:off x="1066680" y="1828800"/>
            <a:ext cx="7010640" cy="46944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4026240" y="755640"/>
            <a:ext cx="350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On se couche</a:t>
            </a:r>
            <a:endParaRPr b="0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dddddd"/>
                </a:solidFill>
                <a:latin typeface="Times New Roman"/>
              </a:rPr>
              <a:t>Continuons!</a:t>
            </a:r>
            <a:endParaRPr b="0" i="1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6699"/>
                </a:solidFill>
                <a:latin typeface="Arial"/>
              </a:rPr>
              <a:t>Maintenant, écrivez la série de phrase l’une après l’autre sur vos tableaux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2:12:55Z</dcterms:created>
  <dc:creator>FPS</dc:creator>
  <dc:description/>
  <dc:language>en-US</dc:language>
  <cp:lastModifiedBy>GREBERT,VIVIANE</cp:lastModifiedBy>
  <dcterms:modified xsi:type="dcterms:W3CDTF">2017-02-05T18:00:19Z</dcterms:modified>
  <cp:revision>45</cp:revision>
  <dc:subject/>
  <dc:title>Tu as une idée de cadeau pour…</dc:title>
</cp:coreProperties>
</file>